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5716588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13A9-0907-49F9-B086-A25FCEF878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E991-B21D-45C7-92CE-B70DB35523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3228-90E8-4566-AE29-D807BF524A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64A9-5E1C-4084-8BC8-5A30EC8419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0DB5-49E9-4D9F-BC2C-7469152C1F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E111-C2A7-4616-A339-300F96B392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42D5-209D-4946-BFCF-CD6868501E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DCEC-A320-4E45-8538-B304BAC564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6CF9-5CEC-4FD1-B545-2B3E1EDB84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DB17-4FB0-4262-AF05-6D073EC410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6CBB-05CF-4728-AB2E-93435CBCE6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9D31-B1F4-4460-A33F-638D12F383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E453-729F-4E10-8CA2-1D5CE45598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0288-58D6-482D-93C0-7FFCFB7530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EBDA-409D-4DE5-8B5E-B025623014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D9CD-A286-4FFE-94B1-A24279B7C3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1168-88C2-42F5-8B1E-99A2AF1DD5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7699-5753-40E9-AB2C-7AF81F05C7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0379-68CF-4533-A004-6EF4ECEA16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9800-7BA6-4C7A-916C-4068FF2BE6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13268-D089-463A-8F18-D6B7B5027C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A9D2-C1EE-476F-9AD0-6F0E516660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7B0D-2A4B-4391-BC2A-CD29BFD096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FC78-9159-47F3-9C57-13BC094DD2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2A2-4DDC-4E5E-AA27-B7E59B8051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D88-99B0-4CC1-917A-976FB8834E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05A-6165-4E2A-96B6-F69E622C2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752-AA8E-4D58-B59E-9ED39B2952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B0B-943E-4128-B6A2-7F8F112DA2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36D-B498-49CD-8A11-48B00777F5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F89-CAEE-4C38-BE4D-39F936C222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B23-CED1-4A68-8464-EC028A9DBE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6F4-1AE0-4B49-9B18-B3094D3760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49A-BD27-481D-921A-4AD4E41D56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87D-7549-45C4-9B51-15E025756A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D8B-1B2E-4FCD-ACB7-ADC34CDC943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B89AF-AE2B-45D5-AA39-C99ADB1BF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3B539-4FC6-485E-BBC2-4000286F40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F62DE-8FEC-40AE-A30D-FD38259B476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30A0F-AB0A-4D84-BDD7-53969BBFC48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701A3-FC12-4942-8B7C-A6FD09D74BA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B9F43-0A1E-40C2-9EC8-69EA0AFCB4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62BA1-BDD1-4494-9DE6-B84A3986033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791E1-CBD0-4610-ADBB-6ADAF6C407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998B1-B80B-47C4-9585-048637BA2C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DE3B5-A171-4C95-850B-FE144F94F0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7DF1B-2ABA-4330-9AA4-1ACAA83A0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E3ECD-1557-413F-90C2-74841B221C1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BAC5B-7429-4C60-A7DF-19AC2F9CE4D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A6397-C99C-4DC8-B086-37BA2783328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AE7F7-012B-4149-A280-AD35F75535E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D54CE-543E-49DC-B295-11DC0B5984F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64BC9-2C9E-4C4C-A9DF-3245F68F678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4030C-5AD2-467B-BB96-E9400E5044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EFAC7-DDBE-42D1-9D0E-D0C4B28E7E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4A899-544E-4ACE-8A71-59EA837F20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112C5-B33D-4095-A030-1A43081B8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43421-029B-4930-9C2F-D63A7667C7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A9A00-B995-4715-86E7-ADD57AB6B5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D11AD-D4B4-4FDC-B3A1-4DDDBA2BC58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C2A9-43CD-41ED-8A36-EBC6B61984B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EFC6-2643-44A4-90AE-DB4EB9BE1E6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3F31-062A-4B59-8D71-CB90D8DF8A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F7AC-D3C7-47FB-A384-00D90061F1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41CB-27D5-4A51-8C9C-66E5C9BFE6A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114D-4299-4AA8-B9A0-9D5E76100F8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6ECB-68AD-43C3-AE5A-DAB1477E9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4DA0-0550-4978-B455-50B1953ADE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6C3C-EEA3-4A2B-BA0B-2BF8F099CB3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9A47-A72D-4332-88AA-09F995A6CB6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72D7-AD01-4A07-80C2-05C50FDB2D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A30F-F71D-4032-AEC1-26CC2E9D03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571644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sldNum" idx="1"/>
          </p:nvPr>
        </p:nvSpPr>
        <p:spPr>
          <a:xfrm>
            <a:off x="7470360" y="5297040"/>
            <a:ext cx="284040" cy="303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30600" bIns="306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616A50-7C52-49C1-A736-932EF70BA017}" type="slidenum"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5716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ldNum" idx="2"/>
          </p:nvPr>
        </p:nvSpPr>
        <p:spPr>
          <a:xfrm>
            <a:off x="7470360" y="5297040"/>
            <a:ext cx="284040" cy="303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30600" bIns="306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E73EB0-282B-4216-98F4-1331E355E4F6}" type="slidenum"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5716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ldNum" idx="3"/>
          </p:nvPr>
        </p:nvSpPr>
        <p:spPr>
          <a:xfrm>
            <a:off x="7470360" y="5297040"/>
            <a:ext cx="284040" cy="303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30600" bIns="306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BFF232-2294-4954-AC53-2E9DE4B35540}" type="slidenum"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5716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sldNum" idx="4"/>
          </p:nvPr>
        </p:nvSpPr>
        <p:spPr>
          <a:xfrm>
            <a:off x="7470360" y="5297040"/>
            <a:ext cx="284040" cy="303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30600" bIns="306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C29C47-C79B-4C39-A804-B0C15DF77476}" type="slidenum"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57164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sldNum" idx="5"/>
          </p:nvPr>
        </p:nvSpPr>
        <p:spPr>
          <a:xfrm>
            <a:off x="7470360" y="5297040"/>
            <a:ext cx="284040" cy="303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30600" bIns="306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D664F0-CD21-478A-AD8A-67AA45A00723}" type="slidenum"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5716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ldNum" idx="6"/>
          </p:nvPr>
        </p:nvSpPr>
        <p:spPr>
          <a:xfrm>
            <a:off x="7470360" y="5297040"/>
            <a:ext cx="284040" cy="30348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30600" bIns="306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85E6A9-51CB-4858-B96C-102EFC1001DD}" type="slidenum"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684360" y="1562040"/>
            <a:ext cx="7416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 u="sng">
                <a:solidFill>
                  <a:srgbClr val="000000"/>
                </a:solidFill>
                <a:uFillTx/>
                <a:latin typeface="Arial Black"/>
              </a:rPr>
              <a:t>Programa de Garantia de Preços para a Agricultura Familiar - PGPAF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5"/>
          <p:cNvSpPr/>
          <p:nvPr/>
        </p:nvSpPr>
        <p:spPr>
          <a:xfrm>
            <a:off x="179280" y="176040"/>
            <a:ext cx="54849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f3747"/>
                </a:solidFill>
                <a:latin typeface="Calibri"/>
              </a:rPr>
              <a:t>PRONAF – </a:t>
            </a:r>
            <a:r>
              <a:rPr b="0" lang="pt-BR" sz="1800" spc="-1" strike="noStrike">
                <a:solidFill>
                  <a:srgbClr val="0f3747"/>
                </a:solidFill>
                <a:latin typeface="Calibri"/>
              </a:rPr>
              <a:t>Programa Nacional de Agricultura Famili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971640" y="554040"/>
            <a:ext cx="698508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BASE LEG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alibri"/>
              </a:rPr>
              <a:t>O arcabouço legal do PGPAF consiste em três instrumentos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buClr>
                <a:srgbClr val="0099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alibri"/>
              </a:rPr>
              <a:t>Decreto nº 5.996, de 12/200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Institui o PGPF e o Comitê Gestor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stabelece o papel da SAF, CONAB e CMN no programa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stabelece o custo variável como base para o Preço de Garantia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1001"/>
              </a:spcBef>
              <a:buClr>
                <a:srgbClr val="0099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alibri"/>
              </a:rPr>
              <a:t>Resoluções do CM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utoriza bancos a conceder bônus do PGPAF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stabelece Preço Mínimo como piso para o PGPAF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tribui à SAF/MDA a publicação de Portaria com o bônus mensal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ixa os Preços Garantidores de cada produto válido por um ano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1001"/>
              </a:spcBef>
              <a:buClr>
                <a:srgbClr val="0099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alibri"/>
              </a:rPr>
              <a:t>Decreto nº 8.026, de 06/201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alibri"/>
              </a:rPr>
              <a:t>Institui o PGPAF Mai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spcBef>
                <a:spcPts val="1001"/>
              </a:spcBef>
              <a:buClr>
                <a:srgbClr val="0099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Calibri"/>
              </a:rPr>
              <a:t>Portarias da SAF com o Bônus mensa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179280" y="176040"/>
            <a:ext cx="54849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f3747"/>
                </a:solidFill>
                <a:latin typeface="Calibri"/>
              </a:rPr>
              <a:t>PRONAF – </a:t>
            </a:r>
            <a:r>
              <a:rPr b="0" lang="pt-BR" sz="1800" spc="-1" strike="noStrike">
                <a:solidFill>
                  <a:srgbClr val="0f3747"/>
                </a:solidFill>
                <a:latin typeface="Calibri"/>
              </a:rPr>
              <a:t>Programa Nacional de Agricultura Famili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468360" y="668160"/>
            <a:ext cx="83516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PERACIONALIZA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Calibri"/>
              </a:rPr>
              <a:t>Beneficiário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utuários de operações de crédito de custeio e investimento, no âmbito do PRONAF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Calibri"/>
              </a:rPr>
              <a:t>Não é concedido bônus a operaçõe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adimplidas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naf Agroindústria e Pronaf Custeio Agroindústria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naf Floresta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naf Cotas-partes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vestimento destinado a atividades rurais não agropecuárias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ontratadas por pessoas jurídicas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Calibri"/>
              </a:rPr>
              <a:t>Antecipação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té 90 dias antes da data de vencimento de operações de custeio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té 30 dias antes da data de vencimento de operações de investimento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5"/>
          <p:cNvSpPr/>
          <p:nvPr/>
        </p:nvSpPr>
        <p:spPr>
          <a:xfrm>
            <a:off x="179280" y="176040"/>
            <a:ext cx="54849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f3747"/>
                </a:solidFill>
                <a:latin typeface="Calibri"/>
              </a:rPr>
              <a:t>PRONAF – </a:t>
            </a:r>
            <a:r>
              <a:rPr b="0" lang="pt-BR" sz="1800" spc="-1" strike="noStrike">
                <a:solidFill>
                  <a:srgbClr val="0f3747"/>
                </a:solidFill>
                <a:latin typeface="Calibri"/>
              </a:rPr>
              <a:t>Programa Nacional de Agricultura Famili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24000" y="985680"/>
            <a:ext cx="835164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indent="-809640" algn="ctr"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PERACIONALIZA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09640" indent="-809640" algn="just"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9640" indent="-809640"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00"/>
                </a:solidFill>
                <a:latin typeface="Calibri"/>
              </a:rPr>
              <a:t>Bônus Investimento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9640" indent="-809640"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809640" indent="-809640"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mesmo do custeio, quando o produto responsável por no mínimo 35% da renda para pagamento da operação, estiver no PGPAF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9640" indent="-809640"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9640" indent="-809640"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produto principal deve ser informado antes da formalização da opera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9640" indent="-809640"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9640" indent="-809640"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esta de produtos – Quando não for identificado o produto com maior geração de renda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2044800" indent="-419040">
              <a:lnSpc>
                <a:spcPct val="100000"/>
              </a:lnSpc>
              <a:tabLst>
                <a:tab algn="l" pos="0"/>
                <a:tab algn="l" pos="62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bônus médio dos produtos </a:t>
            </a:r>
            <a:r>
              <a:rPr b="1" lang="pt-BR" sz="2000" spc="-1" strike="noStrike">
                <a:solidFill>
                  <a:srgbClr val="002060"/>
                </a:solidFill>
                <a:latin typeface="Calibri"/>
              </a:rPr>
              <a:t>feijão, milho, leite, mandioc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5"/>
          <p:cNvSpPr/>
          <p:nvPr/>
        </p:nvSpPr>
        <p:spPr>
          <a:xfrm>
            <a:off x="179280" y="176040"/>
            <a:ext cx="54849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f3747"/>
                </a:solidFill>
                <a:latin typeface="Calibri"/>
              </a:rPr>
              <a:t>PRONAF – </a:t>
            </a:r>
            <a:r>
              <a:rPr b="0" lang="pt-BR" sz="1800" spc="-1" strike="noStrike">
                <a:solidFill>
                  <a:srgbClr val="0f3747"/>
                </a:solidFill>
                <a:latin typeface="Calibri"/>
              </a:rPr>
              <a:t>Programa Nacional de Agricultura Famili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822920" y="1490760"/>
            <a:ext cx="3925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f3747"/>
                </a:solidFill>
                <a:latin typeface="Calibri"/>
              </a:rPr>
              <a:t>OPERACIONALIZA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900000" y="4054320"/>
            <a:ext cx="4321440" cy="457200"/>
          </a:xfrm>
          <a:prstGeom prst="rect">
            <a:avLst/>
          </a:prstGeom>
          <a:solidFill>
            <a:srgbClr val="33996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1195920" y="2076480"/>
            <a:ext cx="1434960" cy="580680"/>
          </a:xfrm>
          <a:prstGeom prst="flowChartProcess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Preço d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Garantia (PG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7" name="AutoShape 6"/>
          <p:cNvCxnSpPr>
            <a:stCxn id="346" idx="2"/>
            <a:endCxn id="348" idx="0"/>
          </p:cNvCxnSpPr>
          <p:nvPr/>
        </p:nvCxnSpPr>
        <p:spPr>
          <a:xfrm>
            <a:off x="1914120" y="2662200"/>
            <a:ext cx="1080" cy="23256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49" name="AutoShape 7"/>
          <p:cNvCxnSpPr>
            <a:stCxn id="348" idx="3"/>
            <a:endCxn id="350" idx="1"/>
          </p:cNvCxnSpPr>
          <p:nvPr/>
        </p:nvCxnSpPr>
        <p:spPr>
          <a:xfrm>
            <a:off x="2894040" y="3690720"/>
            <a:ext cx="110232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51" name="AutoShape 8"/>
          <p:cNvCxnSpPr>
            <a:stCxn id="348" idx="2"/>
            <a:endCxn id="352" idx="0"/>
          </p:cNvCxnSpPr>
          <p:nvPr/>
        </p:nvCxnSpPr>
        <p:spPr>
          <a:xfrm>
            <a:off x="1914120" y="4487400"/>
            <a:ext cx="13320" cy="62316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48" name="AutoShape 9"/>
          <p:cNvSpPr/>
          <p:nvPr/>
        </p:nvSpPr>
        <p:spPr>
          <a:xfrm>
            <a:off x="934920" y="2896560"/>
            <a:ext cx="1959120" cy="1587600"/>
          </a:xfrm>
          <a:prstGeom prst="flowChartDecision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Preço de Mercad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(PM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0"/>
          <p:cNvSpPr/>
          <p:nvPr/>
        </p:nvSpPr>
        <p:spPr>
          <a:xfrm>
            <a:off x="1576080" y="5114880"/>
            <a:ext cx="700560" cy="580680"/>
          </a:xfrm>
          <a:prstGeom prst="flowChartProcess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Pag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bônu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AutoShape 11"/>
          <p:cNvSpPr/>
          <p:nvPr/>
        </p:nvSpPr>
        <p:spPr>
          <a:xfrm>
            <a:off x="3999600" y="3400560"/>
            <a:ext cx="1050840" cy="580680"/>
          </a:xfrm>
          <a:prstGeom prst="flowChartProcess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Não pag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bônu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1501920" y="4549680"/>
            <a:ext cx="854280" cy="3070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M &lt; P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987280" y="3341520"/>
            <a:ext cx="688320" cy="7333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M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gt; Ou =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AutoShape 14"/>
          <p:cNvSpPr/>
          <p:nvPr/>
        </p:nvSpPr>
        <p:spPr>
          <a:xfrm>
            <a:off x="1407960" y="630360"/>
            <a:ext cx="1015920" cy="580680"/>
          </a:xfrm>
          <a:prstGeom prst="flowChartProcess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usto d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Produçã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56" name="AutoShape 15"/>
          <p:cNvCxnSpPr>
            <a:stCxn id="355" idx="2"/>
            <a:endCxn id="346" idx="0"/>
          </p:cNvCxnSpPr>
          <p:nvPr/>
        </p:nvCxnSpPr>
        <p:spPr>
          <a:xfrm flipH="1">
            <a:off x="1913760" y="1215720"/>
            <a:ext cx="2520" cy="85644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57" name="Text Box 16"/>
          <p:cNvSpPr/>
          <p:nvPr/>
        </p:nvSpPr>
        <p:spPr>
          <a:xfrm>
            <a:off x="1585800" y="1333440"/>
            <a:ext cx="636840" cy="7333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+ ou –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921480" y="2784600"/>
            <a:ext cx="1297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Times New Roman"/>
              </a:rPr>
              <a:t>Rotina Mensa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5"/>
          <p:cNvSpPr/>
          <p:nvPr/>
        </p:nvSpPr>
        <p:spPr>
          <a:xfrm>
            <a:off x="179280" y="176040"/>
            <a:ext cx="54849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f3747"/>
                </a:solidFill>
                <a:latin typeface="Calibri"/>
              </a:rPr>
              <a:t>PRONAF – </a:t>
            </a:r>
            <a:r>
              <a:rPr b="0" lang="pt-BR" sz="1800" spc="-1" strike="noStrike">
                <a:solidFill>
                  <a:srgbClr val="0f3747"/>
                </a:solidFill>
                <a:latin typeface="Calibri"/>
              </a:rPr>
              <a:t>Programa Nacional de Agricultura Famili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468360" y="1130400"/>
            <a:ext cx="7559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27000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f3747"/>
                </a:solidFill>
                <a:latin typeface="Calibri"/>
              </a:rPr>
              <a:t>EV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27000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27000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odutos contemplados:  5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just">
              <a:lnSpc>
                <a:spcPct val="100000"/>
              </a:lnSpc>
              <a:tabLst>
                <a:tab algn="l" pos="0"/>
                <a:tab algn="l" pos="27000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gricultura (42)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just">
              <a:lnSpc>
                <a:spcPct val="100000"/>
              </a:lnSpc>
              <a:tabLst>
                <a:tab algn="l" pos="0"/>
                <a:tab algn="l" pos="27000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Sociobiodiversidade (5):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çaí, Cacau amêndoa, Castanha do Brasil, Baru, Babaçu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27000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cuária(3):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Leite, Mel e Carne Caprinovinocultur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27000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3851280" y="5091120"/>
            <a:ext cx="4392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6353f"/>
                </a:solidFill>
                <a:latin typeface="Calibri"/>
              </a:rPr>
              <a:t>www.mda.gov.br</a:t>
            </a:r>
            <a:r>
              <a:rPr b="1" lang="pt-BR" sz="2000" spc="-1" strike="noStrike">
                <a:solidFill>
                  <a:srgbClr val="16353f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2771640" y="1058760"/>
            <a:ext cx="61945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BRIGADO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jose.henrique@mda.gov.b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uri.andrade@mda.gov.b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mar.filho@mda.gov.b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ago.gomes@mda.gov.b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wanderson.couto@mda.gov.b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290520"/>
                <a:tab algn="l" pos="582480"/>
                <a:tab algn="l" pos="874800"/>
                <a:tab algn="l" pos="1166760"/>
                <a:tab algn="l" pos="1459080"/>
                <a:tab algn="l" pos="1751040"/>
                <a:tab algn="l" pos="2043000"/>
                <a:tab algn="l" pos="2335320"/>
                <a:tab algn="l" pos="2627280"/>
                <a:tab algn="l" pos="2919240"/>
                <a:tab algn="l" pos="3211560"/>
                <a:tab algn="l" pos="3503520"/>
                <a:tab algn="l" pos="3795840"/>
                <a:tab algn="l" pos="4087800"/>
                <a:tab algn="l" pos="4379760"/>
                <a:tab algn="l" pos="4672080"/>
                <a:tab algn="l" pos="4964040"/>
                <a:tab algn="l" pos="5257800"/>
                <a:tab algn="l" pos="5548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elefones: (61) 2020-09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3" name="Picture 10" descr="contato-plano-de-saude"/>
          <p:cNvPicPr/>
          <p:nvPr/>
        </p:nvPicPr>
        <p:blipFill>
          <a:blip r:embed="rId1"/>
          <a:stretch/>
        </p:blipFill>
        <p:spPr>
          <a:xfrm>
            <a:off x="395280" y="1922400"/>
            <a:ext cx="25830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 Grossi</dc:creator>
  <dc:description/>
  <dc:language>en-US</dc:language>
  <cp:lastModifiedBy>Wanderson Henrique de Couto</cp:lastModifiedBy>
  <cp:lastPrinted>2011-08-23T23:55:13Z</cp:lastPrinted>
  <dcterms:modified xsi:type="dcterms:W3CDTF">2017-08-04T18:51:42Z</dcterms:modified>
  <cp:revision>648</cp:revision>
  <dc:subject/>
  <dc:title>PowerPoint Presentation</dc:title>
</cp:coreProperties>
</file>